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2791-02DA-4EBD-BCE4-9E0A37A9C6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EE0B-50C7-4E3B-BD1D-33723D85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F0EB-48BA-4DA1-8E9C-5FA5AD3F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A2BD-178C-400B-B149-E64FBDC693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45BB-8554-449E-954E-92FBED64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F6DE-78EE-40CB-9FF3-FD77F9F9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5187-9309-4291-8F12-B84B933A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675A-9C8B-490C-AE32-3755C165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EE57-C394-480D-A2CB-E9C7E687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A61F-A91F-4AC5-9FEB-3D5CFBBE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EF0E-D6FD-48CA-8166-932EA50B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95A4-CD9E-4EA8-9545-F738095A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76E1-B6CD-430A-8474-6B7C4F0935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8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第三十章    降血糖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10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低血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血糖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&lt; 2.77mmol/L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致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及早发现，严重者立即注射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注意鉴别低血糖昏迷、酮症酸中毒昏迷及非酮症性糖尿病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胰岛素耐受性（胰岛素抵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反应：脂肪萎缩、女性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 口服降血糖药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磺酰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1080" y="155736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甲苯磺丁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tolbutamide, D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60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chlorprop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本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bencl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吡嗪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piz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齐特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clazipe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美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mepride)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06472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口服易吸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血浆蛋白结合率高于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最长、约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6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主要在肝氧化成羟基化合物，从尿中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降血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内源性胰岛素释放增加（胰岛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细胞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提高靶细胞对胰岛素的敏感性，增强靶细胞上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INSR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的数目和亲和力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水排泄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氯磺丙脲：促进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ADH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分泌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抗利尿作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凝血功能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第三代磺酰脲类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使血小板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黏附力下降、刺激纤溶酶原合成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抗凝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4761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7440" y="1916280"/>
            <a:ext cx="6909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胰岛功能尚存的非胰岛素依赖型糖尿病（饮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食控制无效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对产生胰岛素耐受患者，可减少胰岛素用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尿崩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17360"/>
            <a:ext cx="878508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血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症状     眩晕、嗜睡、共济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敏反应      荨麻疹、粒细胞减少，黄疸及肝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201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物相互作用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23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他药物竞争结合血浆蛋白，使游离型药物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浓度上升引起低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氯丙嗪、糖皮质激素（肝药酶诱导）合用，作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避孕药使胰岛素分泌功能下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乙醇抑制糖异生、肝葡萄糖输出，合用可造成低血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96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. </a:t>
            </a: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双胍类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葡萄糖无氧酵解和利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慢肠道对葡萄糖的吸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肝内糖异生和葡萄糖的生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增强机体对胰岛素的敏感性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胰高血糖素释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轻症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胃肠道反应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乳酸血症及酮血症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三、胰岛素增敏剂</a:t>
            </a:r>
            <a:br>
              <a:rPr sz="3600"/>
            </a:b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对胰岛素抵抗，提高机体对胰岛素敏感性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80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噻唑烷酮类化合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格列酮、吡格列酮、曲格列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及其制剂的药理作用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磺酰脲类、双胍类的药理作用、临床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增敏药、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葡萄糖苷酶抑制药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作用特点、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6360" y="691920"/>
            <a:ext cx="849636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胰岛素抵抗、降低血糖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脂质代谢紊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治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血管并发症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br>
              <a:rPr sz="4000"/>
            </a:b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产生胰岛素抵抗的</a:t>
            </a:r>
            <a:r>
              <a:rPr b="0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2360" y="3141720"/>
            <a:ext cx="8615520" cy="31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华文中宋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嗜睡、肌肉及骨骼痛、头痛、消化道症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曲格列酮明显肝毒性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四、</a:t>
            </a:r>
            <a:r>
              <a:rPr b="1" lang="el-GR" sz="3600" spc="-1" strike="noStrike">
                <a:solidFill>
                  <a:srgbClr val="046ca6"/>
                </a:solidFill>
                <a:latin typeface="Verdana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-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葡萄糖苷酶抑制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8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新型口服降糖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在小肠上皮刷状缘与碳水化合物竞争</a:t>
            </a:r>
            <a:r>
              <a:rPr b="0" lang="el-GR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 -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苷酶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，使葡萄糖生成减少、葡萄糖吸收延缓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服药期间增加碳水化合物的比例，并限制单糖摄入量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360" y="406080"/>
            <a:ext cx="8077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率在全球范围内呈上升趋势，成为全世界发病率、致残率、死亡率都高的疾病之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IDDM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身免疫性疾病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–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破坏，胰岛素分泌缺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NIDDM)    95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功能低下，胰岛素相对缺乏、胰岛素抵抗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INR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胰岛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分子量为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56kD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的酸性蛋白质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两条多肽链以二硫键共价相连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783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7120" y="1701720"/>
            <a:ext cx="82486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口服无效，必须注射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代谢快，</a:t>
            </a:r>
            <a:r>
              <a:rPr b="1" i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仅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 但作用可维持数小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在肝、肾灭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、长效制剂延长作用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中、长效制剂均为混悬剂，不可静脉注射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5560" y="914400"/>
            <a:ext cx="913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物质代谢过程广泛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糖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增加葡萄糖转运，加速氧化和酵解，促进糖原合成    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贮存，抑制糖原分解和异生，降低血糖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脂肪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脂肪酸转运增加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F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体生成减少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促进生长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转运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激活钠、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 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流增加，胞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增加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6360" y="909720"/>
            <a:ext cx="880416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981000"/>
          <a:ext cx="7416720" cy="5518080"/>
        </p:xfrm>
        <a:graphic>
          <a:graphicData uri="http://schemas.openxmlformats.org/drawingml/2006/table">
            <a:tbl>
              <a:tblPr/>
              <a:tblGrid>
                <a:gridCol w="762120"/>
                <a:gridCol w="1422360"/>
                <a:gridCol w="993600"/>
                <a:gridCol w="1059120"/>
                <a:gridCol w="1058760"/>
                <a:gridCol w="1058760"/>
                <a:gridCol w="1062000"/>
              </a:tblGrid>
              <a:tr h="316080"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胰岛素制剂的特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时间（小时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开始       高峰          维持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立即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急救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时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~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2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胰岛素锌混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鱼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结晶胰岛素锌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  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640" y="1294920"/>
            <a:ext cx="9001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IDD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）、 非胰岛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依赖型糖尿病经饮食控制及口服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糖药未能控制者、 伴急性代谢并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症糖尿病、伴合并症糖尿病、 继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性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4160" y="1198080"/>
            <a:ext cx="889128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细胞内缺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由胰岛素、葡萄糖与氯化钾按一定比例配成极化液，纠正细胞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内缺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K</a:t>
            </a:r>
            <a:r>
              <a:rPr b="1" lang="en-US" sz="3200" spc="-1" strike="noStrike" baseline="30000">
                <a:solidFill>
                  <a:srgbClr val="8ac8de"/>
                </a:solidFill>
                <a:latin typeface="华文中宋"/>
                <a:ea typeface="华文中宋"/>
              </a:rPr>
              <a:t>+ 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；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提供能量，防治心律失常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高钾血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2:37:51Z</dcterms:modified>
  <cp:revision>3</cp:revision>
  <dc:subject/>
  <dc:title>   第三十章    降血糖药</dc:title>
</cp:coreProperties>
</file>